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6D6209E-4FDD-4330-8208-4C345033C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D50188A-99F7-46DA-9AB2-B14629DD8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973806B-65B4-4073-B3D2-9158AC7CD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9FE5C0C-2FBA-4CAA-83C4-D74949DEF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FA1896-772C-4387-B804-C1C9D91DB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1F6A3-3B7B-409C-A40B-C2B176D8A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BE3C3-9443-4BDB-8877-48AEC67AE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2342F-613D-4CB6-A422-15A1213FF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FBD9F-6B86-40C0-9E1A-A8EAFE2B4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DE7E2-7E05-424B-A714-E24C5C878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83ACB-8385-497F-A54A-203AAAC8F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10150A9-9617-4EFF-B5D5-8485A930E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1C843-DF66-4351-838C-38E7962B3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B01E1-B8CD-4EB6-9BEF-FD7AC0A4E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79945-4E6C-4BC8-AD79-A53D3DB2A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7AC861-5919-4071-9423-9310E80E8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311E55-DDBC-4716-B7EB-D737CC559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2FB56A9-9BFD-4238-9407-6615C3314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86D5A49-EED9-4DDE-B2D8-EB78411F8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305AA5E-253A-4A51-A400-E806D3353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321A3AB-B84C-4228-99E9-7D540F7F8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DC2D522-A6A8-4A5C-A789-C576C42D5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689B615-5985-4C16-B8C1-AD3EC1857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EA52EC4-18B3-49A7-8106-32C8584C2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1049-5648-4775-8CCA-BF4F166D62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BD2A-5588-48E4-B03D-E57415E607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Biomes Project: Freshwater</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nter of a river</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 Conor Smit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ble of contents</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mmary of Freshwater biome</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cosystems within the biome</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reats the ecosystem fac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ays to prevent this threat from happening</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e humans studying this threat?</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are we as human doing to prevent this threat from affecting the ecosystem?</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od Web</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able of Conte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10591920" cy="685800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Biome Summary</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The freshwater biome has three main ecosystems, the ponds and lakes ecosystem, rivers and streams and wetlands. A freshwater ecosystem would be defined as a body of water with a salt concentration lower than 1%.</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iomes Summary…..Continued</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3200" spc="-1" strike="noStrike" u="sng">
                <a:solidFill>
                  <a:srgbClr val="ffffff"/>
                </a:solidFill>
                <a:uFillTx/>
                <a:latin typeface="Garamond"/>
              </a:rPr>
              <a:t>Ponds and Lakes</a:t>
            </a:r>
            <a:endParaRPr b="0" lang="en-US" sz="32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The ponds and lakes ecosystem are usually remnants of glaciations ranging from a few square meters to several thousands of kilometers. Lakes usually have a large amount of biodiversity due to the fact that they usually have access to many rivers that lead to another body of water. Ponds however, are isolated from rivers and streams, that means they generally have a very limited amount of biodiversity and can’t sustain life very easily.</a:t>
            </a:r>
            <a:endParaRPr b="0" lang="en-US" sz="20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1" action="ppaction://hlinksldjump"/>
              </a:rPr>
              <a:t>Bibliography</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iomes Summary…..Continued</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u="sng">
                <a:solidFill>
                  <a:srgbClr val="ffffff"/>
                </a:solidFill>
                <a:uFillTx/>
                <a:latin typeface="Garamond"/>
              </a:rPr>
              <a:t>Rivers and Streams</a:t>
            </a:r>
            <a:endParaRPr b="0" lang="en-US" sz="32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ivers and Streams are bodies of water that flow in one direction, they usually start at snowmelts, lakes or spring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iomes Summary…..Continued</a:t>
            </a:r>
            <a:endParaRPr b="1" lang="en-US" sz="4400" spc="-1" strike="noStrike">
              <a:solidFill>
                <a:srgbClr val="e5e5ff"/>
              </a:solidFill>
              <a:latin typeface="Garamond"/>
            </a:endParaRPr>
          </a:p>
        </p:txBody>
      </p:sp>
      <p:sp>
        <p:nvSpPr>
          <p:cNvPr id="114" name="PlaceHolder 2"/>
          <p:cNvSpPr>
            <a:spLocks noGrp="1"/>
          </p:cNvSpPr>
          <p:nvPr>
            <p:ph/>
          </p:nvPr>
        </p:nvSpPr>
        <p:spPr>
          <a:xfrm>
            <a:off x="304920" y="1447920"/>
            <a:ext cx="8229600" cy="4525920"/>
          </a:xfrm>
          <a:prstGeom prst="rect">
            <a:avLst/>
          </a:prstGeom>
          <a:noFill/>
          <a:ln w="0">
            <a:noFill/>
          </a:ln>
        </p:spPr>
        <p:txBody>
          <a:bodyPr lIns="90000" rIns="90000" tIns="46800" bIns="46800" anchor="t">
            <a:normAutofit/>
          </a:bodyPr>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3200" spc="-1" strike="noStrike" u="sng">
                <a:solidFill>
                  <a:srgbClr val="ffffff"/>
                </a:solidFill>
                <a:uFillTx/>
                <a:latin typeface="Garamond"/>
              </a:rPr>
              <a:t>Wetlands</a:t>
            </a:r>
            <a:endParaRPr b="0" lang="en-US" sz="3200" spc="-1" strike="noStrike">
              <a:solidFill>
                <a:srgbClr val="ffffff"/>
              </a:solidFill>
              <a:latin typeface="Garamond"/>
            </a:endParaRPr>
          </a:p>
          <a:p>
            <a:pPr lvl="3" marL="16002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reat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ibliography</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ttp://studentweb.cortland.edu/Ortu42/rainbowwater.bmp</a:t>
            </a: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ttp://range-wildlifesolutions.com/yahoo_site_admin/assets/images/DSCN0483.5593401_std.JPG</a:t>
            </a: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ttp://cascadiarealty.ca/wp-content/uploads/2010/03/Optimized-DSC_000111-1024x685.jpg</a:t>
            </a: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ttp://www.on.ec.gc.ca/wildlife/factsheets/images/glfs_amph_wetland.jpg</a:t>
            </a:r>
            <a:endParaRPr b="0" lang="en-US" sz="1800" spc="-1" strike="noStrike">
              <a:solidFill>
                <a:srgbClr val="ffffff"/>
              </a:solidFill>
              <a:latin typeface="Garam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4:50:49Z</dcterms:created>
  <dc:creator>User</dc:creator>
  <dc:description/>
  <dc:language>en-US</dc:language>
  <cp:lastModifiedBy>User</cp:lastModifiedBy>
  <dcterms:modified xsi:type="dcterms:W3CDTF">2010-10-15T15:17:23Z</dcterms:modified>
  <cp:revision>3</cp:revision>
  <dc:subject/>
  <dc:title>Biomes Project: Freshwater</dc:title>
</cp:coreProperties>
</file>